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B600-B123-4F41-BBFD-50E01DBB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36A-9DC4-41E8-93C8-838FD4C1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552-AD14-4638-9E3D-E40606D3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0BB-8701-4C0C-9B3B-F81975A2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B815-AC18-4BBD-A3B9-160794BF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86F9-4DC6-423E-8BE4-AA96149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69E3-0461-4CF0-B031-14BC8377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5056-CCC6-483E-AC01-C41ED5A6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E636-1A4F-45D7-89F3-298AF68C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15B1-826F-4ED8-8961-B94DADD1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B5FA-C822-4A7E-BA70-4F071B8A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679-055C-413C-A220-E1DDEAE2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F99E-7B5D-4316-8AAB-26A604AA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8EC6-5163-421D-8DEF-B12B25AE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3EE8-3F12-456D-BB25-F0C59C5A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B33E-94D0-45D6-B155-F6E0766D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20E2-821A-48CD-BDAE-3036A291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1DA9-8252-4BAE-8D95-55E0B7D4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00C-56CB-479A-B1F7-0D5FEA3C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3355-FDD3-4960-96A9-712F6AFC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562-6404-4706-806C-3946CB27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2B9-FEA6-4B7D-B920-A07BD431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764-EF88-4C99-9C5F-1077831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712-8F0E-4A32-9576-786398FE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1BCA-9451-43DC-B122-F6FDAE332CF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81E0-BE8D-4CBA-A5F6-13C926A255B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tllacu.wikispaces.com/Forbe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2852640"/>
            <a:ext cx="784692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Leaders Transforming Learning and Learners (LTLL)</a:t>
            </a:r>
            <a:endParaRPr b="0" lang="en-US" sz="5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Where are we up to?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Revisiting the Action Plan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08160" y="281160"/>
            <a:ext cx="266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Staff Meet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erm 2 Week 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ere are we up to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ANK YOU for completing the Teacher Survey! A lot of valuable information was collected which will help us build our knowledge and skills in our LTLL focus areas; Teacher as Leader and Educative Leadership (Leadership for professional learning).</a:t>
            </a:r>
            <a:r>
              <a:rPr b="0" lang="en-US" sz="2800" spc="-1" strike="noStrike">
                <a:solidFill>
                  <a:srgbClr val="ffcc00"/>
                </a:solidFill>
                <a:latin typeface="Abadi MT Condensed Light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LTLL Wiki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heck it out!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Comic Sans MS"/>
                <a:hlinkClick r:id="rId1"/>
              </a:rPr>
              <a:t>http://ltllacu.wikispaces.com/Forbe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the upcoming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eeks look like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6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Workshop 1: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IWB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xplore options and timetable workshops for Term 3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ntense classroom preparation for Learning Journeys and 3 Way Interview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8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</a:rPr>
              <a:t>Stage Meeting: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Overviews, targets for Term 3, reviewing the Literacy and Numeracy Plan (Focus 6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mplementation of 3 Way Reporting. Parent and student survey of the process at the end of the interview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Week 1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view data collected from both parent and student surveys regarding the 3 Way Reporting proces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Observing ou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olleagues in ‘action’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Appreciating and learning from one ano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This can occur throughout the year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Prue H can assist by releasing teachers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Jacqui can assist on </a:t>
            </a:r>
            <a:r>
              <a:rPr b="0" lang="en-US" sz="2500" spc="-1" strike="noStrike" u="sng">
                <a:solidFill>
                  <a:srgbClr val="ffcc00"/>
                </a:solidFill>
                <a:uFillTx/>
                <a:latin typeface="Comic Sans MS"/>
              </a:rPr>
              <a:t>Tuesdays</a:t>
            </a: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 by releasing teachers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It is up to the individual teacher to organise a suitable day and time with their colleague/s to visit their classroom and observe them regarding the areas of interest, e.g. use of technology, spelling, group work, etc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cc00"/>
                </a:solidFill>
                <a:latin typeface="Comic Sans MS"/>
              </a:rPr>
              <a:t>Teachers must then organise their release with Prue H and/or Jacqu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orkshop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Will begin TODA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After looking at the survey results, many people would like PD in the area of IT, especially IWB training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Workshops will occur each term on the main areas of interest noted in the teacher survey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eachers will be approached by me to facilitate Workshop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orkshop 1: IWB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A collaborative approach utilising the knowledge and expertise of our colleagues.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his is our chance to have some hands-on learning with the IWB and associated softwar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Our IWB gurus (Michael, Trudy and Carina) will be available to help us and teach us a few tricks of the trade!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Have fun and learn lots!! </a:t>
            </a:r>
            <a:r>
              <a:rPr b="0" i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4:28:23Z</dcterms:created>
  <dc:creator>jacquilyn.dwyer</dc:creator>
  <dc:description/>
  <dc:language>en-US</dc:language>
  <cp:lastModifiedBy>jacquilyn.dwyer</cp:lastModifiedBy>
  <dcterms:modified xsi:type="dcterms:W3CDTF">2011-06-01T06:04:15Z</dcterms:modified>
  <cp:revision>5</cp:revision>
  <dc:subject/>
  <dc:title>Leaders Transforming Learning and Learners (LTLL)</dc:title>
</cp:coreProperties>
</file>